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48580"/>
        <c:axId val="95235167"/>
      </c:barChart>
      <c:catAx>
        <c:axId val="61848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35167"/>
        <c:crosses val="autoZero"/>
        <c:auto val="1"/>
        <c:lblAlgn val="ctr"/>
        <c:lblOffset val="100"/>
        <c:noMultiLvlLbl val="0"/>
      </c:catAx>
      <c:valAx>
        <c:axId val="95235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48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7C3-2570-4ED1-A274-70801623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52A-E13A-4FDC-8B25-05DE52D0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DC0-7C3F-4A47-B89F-722B10A1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F42-84E7-4066-80ED-681077EE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A6B-3515-48E6-B71E-61D9E08B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D20-ECE0-4DE3-B562-974A4CDB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302-0CE8-4C22-B44D-7DF00078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E70-8A1F-4E7D-8FE3-831A28C6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68F-6F8E-4FC1-AAFB-3955CDF7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0EA-30DC-4A5B-84B5-7E3CDE43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83B-465F-46C5-A8E8-D8CF3DEB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A92-4465-4078-B095-A9A6A935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A8684-F618-42E3-AF9A-F6C3086ADC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